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CFF2-DC1B-426D-9502-DD72B38B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F6D3-10C9-4422-9AF4-A925E7E9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7C0F-DB51-4469-9B77-82E29BC9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A40-643E-4EEB-92B0-FC1490A2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E3AD-828D-4D5F-A8D3-EDF73640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362D-091E-4509-AFCB-80429D80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8ABA-D447-45AB-B8F2-C9ADC3DD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7EAC-66BB-4771-AA93-1A2ABE24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13AD-8573-4DD8-9854-EE265789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78D2-B9D3-43D5-BC45-F7D9F90E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A240-3BD3-4A51-B3EC-109DB528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F3BC-6831-4A97-99F6-B26BD8C5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5220-BA08-4337-A550-F23C8B2F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48F2-E03C-4BBC-9E35-55D15B49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64F4-6623-45E0-9AE4-A2DD0CB7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85CB-54D0-4ADD-86F0-D80A828F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6425-761B-4DA3-8850-ED52106C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A6F-0BE3-45D3-92D8-9BCD5D8E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5F35-1126-4F60-BE81-72A09219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E7F7-2E46-4601-897D-765FB1F2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C82C-D627-4EA4-AEDD-7681118D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86AA-588A-46DF-8687-A2DDFC9B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5B18-5213-4AB3-9430-7C458279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FAFF-FE33-4F7A-8FD4-CA6796C1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677E-8407-48A2-8492-A94E62B1AECB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E0E8-9250-44F3-A9F4-553520F77263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576;&#1575;&#1576;%20&#1575;&#1604;&#1608;&#1601;&#1575;&#1569;.ppt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hyperlink" Target="file:///&#1576;&#1575;&#1576;%20&#1575;&#1604;&#1589;&#1604;&#1577;.ppt" TargetMode="External"/><Relationship Id="rId6" Type="http://schemas.openxmlformats.org/officeDocument/2006/relationships/image" Target="../media/image4.png"/><Relationship Id="rId7" Type="http://schemas.openxmlformats.org/officeDocument/2006/relationships/hyperlink" Target="file:///&#1576;&#1575;&#1576;%20&#1575;&#1604;&#1582;&#1588;&#1610;&#1577;.ppt" TargetMode="External"/><Relationship Id="rId8" Type="http://schemas.openxmlformats.org/officeDocument/2006/relationships/image" Target="../media/image4.png"/><Relationship Id="rId9" Type="http://schemas.openxmlformats.org/officeDocument/2006/relationships/hyperlink" Target="file:///&#1576;&#1575;&#1576;%20&#1575;&#1604;&#1582;&#1608;&#1601;.ppt" TargetMode="External"/><Relationship Id="rId10" Type="http://schemas.openxmlformats.org/officeDocument/2006/relationships/image" Target="../media/image4.png"/><Relationship Id="rId11" Type="http://schemas.openxmlformats.org/officeDocument/2006/relationships/hyperlink" Target="file:///&#1576;&#1575;&#1576;%20&#1575;&#1604;&#1589;&#1576;&#1585;.ppt" TargetMode="External"/><Relationship Id="rId12" Type="http://schemas.openxmlformats.org/officeDocument/2006/relationships/image" Target="../media/image4.png"/><Relationship Id="rId13" Type="http://schemas.openxmlformats.org/officeDocument/2006/relationships/hyperlink" Target="file:///&#1576;&#1575;&#1576;%20&#1575;&#1604;&#1589;&#1604;&#1575;&#1577;.ppt" TargetMode="External"/><Relationship Id="rId14" Type="http://schemas.openxmlformats.org/officeDocument/2006/relationships/image" Target="../media/image4.png"/><Relationship Id="rId15" Type="http://schemas.openxmlformats.org/officeDocument/2006/relationships/hyperlink" Target="file:///&#1576;&#1575;&#1576;%20&#1575;&#1604;&#1575;&#1606;&#1601;&#1575;&#1602;.ppt" TargetMode="External"/><Relationship Id="rId16" Type="http://schemas.openxmlformats.org/officeDocument/2006/relationships/image" Target="../media/image4.png"/><Relationship Id="rId17" Type="http://schemas.openxmlformats.org/officeDocument/2006/relationships/hyperlink" Target="file:///&#1576;&#1575;&#1576;%20&#1575;&#1604;&#1578;&#1608;&#1576;&#1577;.ppt" TargetMode="External"/><Relationship Id="rId18" Type="http://schemas.openxmlformats.org/officeDocument/2006/relationships/image" Target="../media/image4.png"/><Relationship Id="rId19" Type="http://schemas.openxmlformats.org/officeDocument/2006/relationships/image" Target="../media/image2.png"/><Relationship Id="rId20" Type="http://schemas.openxmlformats.org/officeDocument/2006/relationships/hyperlink" Target="file:///&#1576;&#1575;&#1576;%20&#1575;&#1604;&#1589;&#1604;&#1577;.ppt" TargetMode="External"/><Relationship Id="rId21" Type="http://schemas.openxmlformats.org/officeDocument/2006/relationships/hyperlink" Target="file:///&#1576;&#1575;&#1576;%20&#1575;&#1604;&#1608;&#1601;&#1575;&#1569;.ppt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47920" y="37479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9900"/>
                </a:solidFill>
                <a:latin typeface="Arial"/>
                <a:cs typeface="Arial"/>
              </a:rPr>
              <a:t>الثقافي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0257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﴿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لَوْ أَنْزَلْنَا هَذَا الْقُرْآَنَ عَلَى جَبَلٍ لَرَأَيْتَهُ خَاشِعًا مُتَصَدِّعًا مِنْ خَشْيَةِ اللَّهِ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﴾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( الحشر: 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6680" y="1219320"/>
            <a:ext cx="42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بِسْمِ اللَّهِ الرَّحْمَنِ الرَّحِيم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483084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000000"/>
                </a:solidFill>
                <a:latin typeface="Arial"/>
                <a:cs typeface="Arial"/>
              </a:rPr>
              <a:t>مسابقة بصائر القرآ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3733920"/>
            <a:ext cx="17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eb140f"/>
                </a:solidFill>
                <a:latin typeface="Arial"/>
                <a:cs typeface="Arial"/>
              </a:rPr>
              <a:t>جم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00"/>
                </a:solidFill>
                <a:latin typeface="Arial"/>
                <a:cs typeface="Arial"/>
              </a:rPr>
              <a:t>المعار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3733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f7b0f"/>
                </a:solidFill>
                <a:latin typeface="Arial"/>
                <a:cs typeface="Arial"/>
              </a:rPr>
              <a:t>الإسلام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9051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34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342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7342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838080"/>
            <a:ext cx="79250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تم إعداد مسابقة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LB" sz="2300" spc="-1" strike="noStrike">
                <a:solidFill>
                  <a:srgbClr val="ff9900"/>
                </a:solidFill>
                <a:latin typeface="Arial"/>
              </a:rPr>
              <a:t>بصائر القرآن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من قبل جمعية المعارف الإسلامية الثقافية ضمن سلسلة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LB" sz="2300" spc="-1" strike="noStrike">
                <a:solidFill>
                  <a:srgbClr val="ff9900"/>
                </a:solidFill>
                <a:latin typeface="Arial"/>
              </a:rPr>
              <a:t>الكلم الطيب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للمساهمة في نشر العلوم القرآنية في المجتمع الإسلامي وسوف يتبعها بعونه تعالى المسابقات التالية 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bf0101"/>
                </a:solidFill>
                <a:latin typeface="Arial"/>
              </a:rPr>
              <a:t>روائع النهج </a:t>
            </a:r>
            <a:r>
              <a:rPr b="1" lang="ar-LB" sz="2400" spc="-1" strike="noStrike">
                <a:solidFill>
                  <a:srgbClr val="bf0101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bf0101"/>
                </a:solidFill>
                <a:latin typeface="Arial"/>
              </a:rPr>
              <a:t> نهج البلاغة </a:t>
            </a:r>
            <a:r>
              <a:rPr b="1" lang="ar-LB" sz="2400" spc="-1" strike="noStrike">
                <a:solidFill>
                  <a:srgbClr val="bf0101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0000"/>
                </a:solidFill>
                <a:latin typeface="Arial"/>
              </a:rPr>
              <a:t>لطائف الصحيفة </a:t>
            </a:r>
            <a:r>
              <a:rPr b="1" lang="ar-L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000000"/>
                </a:solidFill>
                <a:latin typeface="Arial"/>
              </a:rPr>
              <a:t> الصحيفة السجادية </a:t>
            </a:r>
            <a:r>
              <a:rPr b="1" lang="ar-L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8000"/>
                </a:solidFill>
                <a:latin typeface="Arial"/>
              </a:rPr>
              <a:t>محاسن الحديث </a:t>
            </a:r>
            <a:r>
              <a:rPr b="1" lang="ar-LB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008000"/>
                </a:solidFill>
                <a:latin typeface="Arial"/>
              </a:rPr>
              <a:t> أصول الكافي </a:t>
            </a:r>
            <a:r>
              <a:rPr b="1" lang="ar-LB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ff9900"/>
                </a:solidFill>
                <a:latin typeface="Arial"/>
              </a:rPr>
              <a:t>أعدت هذه المسابقة على أساس اختيار كلمات محدّدة ضمن الآيات الكريمة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de05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bf0101"/>
                </a:solidFill>
                <a:latin typeface="Arial"/>
              </a:rPr>
              <a:t>تم وضع ثلاثة احتمالات لكل كلمة ليتمكن القارئ من معرفة المعنى الصحيح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تم تسجيل صوتي لكل آية من الآيات الكريمة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0066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008000"/>
                </a:solidFill>
                <a:latin typeface="Arial"/>
              </a:rPr>
              <a:t>اعتمد تفسير الميزان للعلامة الطباطبائي بشكل أساس وتمت الاستفادة من تفسير الأمثل في كتاب الله المنزل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   في الختام نسأل الله تعالى أن يوفقنا لنشر الثقافة القرآنية في المجتمع راجين منه أحسن القبو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325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5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865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335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>
            <a:hlinkClick r:id="rId2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47712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3520" y="6858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4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4c0000"/>
                </a:solidFill>
                <a:latin typeface="Arial"/>
                <a:ea typeface="Arial"/>
              </a:rPr>
              <a:t> إن هذه المسابقة  مقسمة إلى ثمانية أبواب على عدد أبواب الجنة وبإمكان القارئ الدخول من الباب الذي يريده بمجرد الضغط على الباب المطلو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>
            <a:hlinkClick r:id="rId5"/>
          </p:cNvPr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457200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7"/>
          </p:cNvPr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2666880" y="213372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9"/>
          </p:cNvPr>
          <p:cNvPicPr/>
          <p:nvPr/>
        </p:nvPicPr>
        <p:blipFill>
          <a:blip r:embed="rId10">
            <a:lum bright="-6000"/>
          </a:blip>
          <a:stretch/>
        </p:blipFill>
        <p:spPr>
          <a:xfrm>
            <a:off x="76212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11"/>
          </p:cNvPr>
          <p:cNvPicPr/>
          <p:nvPr/>
        </p:nvPicPr>
        <p:blipFill>
          <a:blip r:embed="rId12">
            <a:lum bright="-6000"/>
          </a:blip>
          <a:stretch/>
        </p:blipFill>
        <p:spPr>
          <a:xfrm>
            <a:off x="6477120" y="480060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13"/>
          </p:cNvPr>
          <p:cNvPicPr/>
          <p:nvPr/>
        </p:nvPicPr>
        <p:blipFill>
          <a:blip r:embed="rId14">
            <a:lum bright="-6000"/>
          </a:blip>
          <a:stretch/>
        </p:blipFill>
        <p:spPr>
          <a:xfrm>
            <a:off x="4572000" y="480060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15"/>
          </p:cNvPr>
          <p:cNvPicPr/>
          <p:nvPr/>
        </p:nvPicPr>
        <p:blipFill>
          <a:blip r:embed="rId16">
            <a:lum bright="-6000"/>
          </a:blip>
          <a:stretch/>
        </p:blipFill>
        <p:spPr>
          <a:xfrm>
            <a:off x="2666880" y="4800600"/>
            <a:ext cx="1752840" cy="1219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17"/>
          </p:cNvPr>
          <p:cNvPicPr/>
          <p:nvPr/>
        </p:nvPicPr>
        <p:blipFill>
          <a:blip r:embed="rId18">
            <a:lum bright="-6000"/>
          </a:blip>
          <a:stretch/>
        </p:blipFill>
        <p:spPr>
          <a:xfrm>
            <a:off x="762120" y="4800600"/>
            <a:ext cx="1752480" cy="1219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85680" y="3429000"/>
            <a:ext cx="73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4c0000"/>
                </a:solidFill>
                <a:latin typeface="Arial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جَنَّاتُ عَدْنٍ يَدْخُلُونَهَا وَمَنْ صَلَحَ مِنْ آَبَائِهِمْ وَأَزْوَاجِهِمْ وَذُرِّيَّاتِهِمْ وَالْمَلَائِكَةُ يَدْخُلُونَ عَلَيْهِمْ مِنْ كُلِّ بَابٍ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﴾  (الرعد 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23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rot="16200000">
            <a:off x="3314520" y="1028520"/>
            <a:ext cx="457200" cy="175284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خش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140976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خو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20"/>
          </p:cNvPr>
          <p:cNvSpPr/>
          <p:nvPr/>
        </p:nvSpPr>
        <p:spPr>
          <a:xfrm rot="16200000">
            <a:off x="521964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1"/>
          </p:cNvPr>
          <p:cNvSpPr/>
          <p:nvPr/>
        </p:nvSpPr>
        <p:spPr>
          <a:xfrm rot="16200000">
            <a:off x="712476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وف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712476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ب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521964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ا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314520" y="3695400"/>
            <a:ext cx="457200" cy="175284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إنفا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40976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توب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7:31Z</dcterms:created>
  <dc:creator/>
  <dc:description/>
  <dc:language>en-US</dc:language>
  <cp:lastModifiedBy>HP</cp:lastModifiedBy>
  <dcterms:modified xsi:type="dcterms:W3CDTF">2008-10-17T07:21:54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